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8F1-16DA-4A52-A69A-ADC9BFF3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79A-13C9-4096-85E9-4EEFE518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B219-A9B0-4877-B39F-B7973060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92BF-D9FC-4692-9226-4CE24D10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C63E-2F04-4281-8EC3-4239390C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F193-3F28-41D5-BC3F-9F88C007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185B-9F3E-4436-BE99-7CBD287A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F0CB-8DE3-49CC-8ED7-02848491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CDBF-5168-4384-B960-A10B2AEA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6F5C-2B3E-456F-9918-4A69362D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6771-D1AC-4E0B-AF44-731DC205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FAA-418A-47DA-B548-A5EE5547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A2BC-7CC3-427C-96F7-E46D3AB8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B826-F14C-49C1-88FA-28A9F054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61A2-BD9A-42B0-9289-E1A21071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D42A-1FF4-4214-98F7-57AA1EA6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65D3-C4D6-4148-B12C-DA543FB5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5E98D-2968-4C60-B14F-E4006A12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EAADE-D2C7-4DED-95F0-3E3F5150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BBE46-852F-4ACC-862D-A3E375C5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F2517-BA6C-48A5-B032-A81D9F99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0759A-A05D-4D1A-A684-06ADE89D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E828-4FAC-4B43-B617-FA9A951B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5DCF6-49ED-48F6-8487-B3A5D20E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F2C58-A74C-4AE3-8596-7754D7BF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21B1D-BCA6-4790-860B-62AB7490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D8D54-3CD7-4332-83FA-754B5FDD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B5A64-D987-497D-89F6-E26A913C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85CAB-1AA3-43F8-83E6-136BD16C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B7BF4-CD71-4232-B8FC-9A0249EE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FBF12-0EAC-4B5E-934B-AD4988F2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51837-7194-40E3-953C-48856BD2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2052D-BBBB-4D9B-BA0A-30F74646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AAF-8336-4A7D-9B9A-202B03AE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8DA7D-98F5-402F-A097-B50921A2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F8735-886C-4BF8-BDBD-FB284ACA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22A66-F27E-491E-BEF7-E9989167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2CEC5-1DE0-469D-9090-6F9A1E05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5FEC4-B15C-49B1-B08E-DD483794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4C2F6-FC3D-423A-8AF0-E8F9CC6E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C5382-2330-4824-A5EF-97BCCDEF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0098D-E3AF-4B28-8F26-3D914AD5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58E79-F7CC-49C2-8C12-FE31AAA6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3C457-89CD-4675-8380-49501931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BA4D-0938-417B-A9A3-C72141CC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A1012-254F-4493-AFD2-B10B9BF8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1ED6F-3851-40E8-A2AD-E50C2487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21164-BB7D-40A3-998C-CEA2EFC4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4B36D-5D35-4833-8163-CC7BC2E9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69AC7-C873-432B-8342-1FFC307A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6A4D0-17C8-4D11-BAB4-17C4258B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20D00-6AEC-4987-8E70-92A2F75F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E0328-040C-4453-860E-32ACA8A6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AB199-295A-41FD-A9DA-CA0CA4CC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0A89F-DACD-48C5-8D96-B915348F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5DF3-DC3F-4D12-8614-6D14F583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60C28-107E-49AC-AB1F-EC33E646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A40-55AC-4A1F-A75F-A3283BF8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D71C-FE52-4B72-8130-460BF764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4FED-8CBF-47AC-8271-33CB0A3A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0D46-7FA0-40C1-92D7-14B59766FE2F}" type="slidenum">
              <a:rPr b="0" lang="ru-RU" sz="10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995C-AF2E-40F5-9E7E-F5ACBD564154}" type="slidenum">
              <a:rPr b="0" lang="ru-RU" sz="10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E7B9-4B5B-496C-8E44-CDD07BF2AFD0}" type="slidenum">
              <a:rPr b="0" lang="ru-RU" sz="10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E19A-179E-4A0C-B976-725B9DA82C2A}" type="slidenum">
              <a:rPr b="0" lang="ru-RU" sz="10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B45F-A770-4ACF-B1B5-295C828039C8}" type="slidenum">
              <a:rPr b="0" lang="ru-RU" sz="10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hyperlink" Target="http://ru.wikipedia.org/wiki/&#1050;&#1086;&#1084;&#1084;&#1091;&#1085;&#1080;&#1089;&#1090;&#1080;&#1095;&#1077;&#1089;&#1082;&#1072;&#1103;_&#1087;&#1072;&#1088;&#1090;&#1080;&#1103;" TargetMode="External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f7e78"/>
              </a:solidFill>
              <a:latin typeface="Verdana"/>
            </a:endParaRPr>
          </a:p>
        </p:txBody>
      </p:sp>
      <p:pic>
        <p:nvPicPr>
          <p:cNvPr id="222" name="Рисунок 3" descr="%20%D0%92%D0%B5%D0%BB%D0%B8%D0%BA%D0%BE%D0%B9%20%D0%B4%D0%B5%D0%BF%D1%80%D0%B5%D1%81%D1%81%D0%B8%D0%B8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3" name="Прямоугольник 4" descr=""/>
          <p:cNvPicPr/>
          <p:nvPr/>
        </p:nvPicPr>
        <p:blipFill>
          <a:blip r:embed="rId2"/>
          <a:stretch/>
        </p:blipFill>
        <p:spPr>
          <a:xfrm>
            <a:off x="6480" y="231840"/>
            <a:ext cx="90090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6594da"/>
              </a:solidFill>
              <a:latin typeface="Verdana"/>
            </a:endParaRPr>
          </a:p>
        </p:txBody>
      </p:sp>
      <p:pic>
        <p:nvPicPr>
          <p:cNvPr id="225" name="Содержимое 3" descr="490221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26" name="Овальная выноска 7"/>
          <p:cNvSpPr/>
          <p:nvPr/>
        </p:nvSpPr>
        <p:spPr>
          <a:xfrm>
            <a:off x="1857240" y="1857240"/>
            <a:ext cx="5715000" cy="3429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74000"/>
            </a:srgbClr>
          </a:solidFill>
          <a:ln w="4248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Америка выступила в роли главного поставщика военных материалов, продовольствия и сырья воюющим государст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Прямоугольник 9" descr=""/>
          <p:cNvPicPr/>
          <p:nvPr/>
        </p:nvPicPr>
        <p:blipFill>
          <a:blip r:embed="rId2"/>
          <a:stretch/>
        </p:blipFill>
        <p:spPr>
          <a:xfrm>
            <a:off x="-12600" y="85680"/>
            <a:ext cx="5614920" cy="1609920"/>
          </a:xfrm>
          <a:prstGeom prst="rect">
            <a:avLst/>
          </a:prstGeom>
          <a:ln w="0">
            <a:noFill/>
          </a:ln>
        </p:spPr>
      </p:pic>
      <p:pic>
        <p:nvPicPr>
          <p:cNvPr id="228" name="Содержимое 5" descr="dd64fc7fe8f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29" name="Овальная выноска 11"/>
          <p:cNvSpPr/>
          <p:nvPr/>
        </p:nvSpPr>
        <p:spPr>
          <a:xfrm>
            <a:off x="2009880" y="2009880"/>
            <a:ext cx="5715000" cy="3429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74000"/>
            </a:srgbClr>
          </a:solidFill>
          <a:ln w="42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Verdana"/>
              </a:rPr>
              <a:t>Общая чистая прибыль американских монополий в течение 1914—1919 гг. составляла около 34 млрд д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Содержимое 5" descr="7e45e15e6185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Овальная выноска 13"/>
          <p:cNvSpPr/>
          <p:nvPr/>
        </p:nvSpPr>
        <p:spPr>
          <a:xfrm>
            <a:off x="1928880" y="1500120"/>
            <a:ext cx="5715000" cy="3429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74000"/>
            </a:srgbClr>
          </a:solidFill>
          <a:ln w="424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Нью-Йорк</a:t>
            </a: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 был международным финансовым центр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571680" y="357120"/>
            <a:ext cx="3857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500040" y="500040"/>
            <a:ext cx="571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7" descr="1233689588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10" descr=""/>
          <p:cNvPicPr/>
          <p:nvPr/>
        </p:nvPicPr>
        <p:blipFill>
          <a:blip r:embed="rId2"/>
          <a:stretch/>
        </p:blipFill>
        <p:spPr>
          <a:xfrm>
            <a:off x="-353880" y="-60480"/>
            <a:ext cx="4846680" cy="1535400"/>
          </a:xfrm>
          <a:prstGeom prst="rect">
            <a:avLst/>
          </a:prstGeom>
          <a:ln w="0">
            <a:noFill/>
          </a:ln>
        </p:spPr>
      </p:pic>
      <p:sp>
        <p:nvSpPr>
          <p:cNvPr id="237" name="Пятно 2 14"/>
          <p:cNvSpPr/>
          <p:nvPr/>
        </p:nvSpPr>
        <p:spPr>
          <a:xfrm>
            <a:off x="1000080" y="1071720"/>
            <a:ext cx="7786800" cy="4643280"/>
          </a:xfrm>
          <a:prstGeom prst="irregularSeal2">
            <a:avLst/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2"/>
          <p:cNvSpPr/>
          <p:nvPr/>
        </p:nvSpPr>
        <p:spPr>
          <a:xfrm>
            <a:off x="2000160" y="2857680"/>
            <a:ext cx="52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ХВАТКА ДЕНЕЖНОЙ МАССЫ и ПЕРЕПРОИЗВОДСТВО ТОВА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ятно 2 31"/>
          <p:cNvSpPr/>
          <p:nvPr/>
        </p:nvSpPr>
        <p:spPr>
          <a:xfrm>
            <a:off x="1071720" y="1143000"/>
            <a:ext cx="7786440" cy="4643280"/>
          </a:xfrm>
          <a:prstGeom prst="irregularSeal2">
            <a:avLst/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9"/>
          <p:cNvSpPr/>
          <p:nvPr/>
        </p:nvSpPr>
        <p:spPr>
          <a:xfrm>
            <a:off x="2286000" y="3143160"/>
            <a:ext cx="50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БИРЖЕ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УЗЫР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ятно 2 27"/>
          <p:cNvSpPr/>
          <p:nvPr/>
        </p:nvSpPr>
        <p:spPr>
          <a:xfrm>
            <a:off x="1143000" y="1214280"/>
            <a:ext cx="7786800" cy="4643640"/>
          </a:xfrm>
          <a:prstGeom prst="irregularSeal2">
            <a:avLst/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0"/>
          <p:cNvSpPr/>
          <p:nvPr/>
        </p:nvSpPr>
        <p:spPr>
          <a:xfrm>
            <a:off x="2571840" y="3214800"/>
            <a:ext cx="45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ОЛЬШОЙ ПРИРОСТ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ятно 2 23"/>
          <p:cNvSpPr/>
          <p:nvPr/>
        </p:nvSpPr>
        <p:spPr>
          <a:xfrm>
            <a:off x="1214280" y="1285920"/>
            <a:ext cx="7786800" cy="4643280"/>
          </a:xfrm>
          <a:prstGeom prst="irregularSeal2">
            <a:avLst/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8"/>
          <p:cNvSpPr/>
          <p:nvPr/>
        </p:nvSpPr>
        <p:spPr>
          <a:xfrm>
            <a:off x="2571840" y="3071880"/>
            <a:ext cx="50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акон СМУТА-ХОУ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ятно 2 21"/>
          <p:cNvSpPr/>
          <p:nvPr/>
        </p:nvSpPr>
        <p:spPr>
          <a:xfrm>
            <a:off x="1214280" y="1357200"/>
            <a:ext cx="7786800" cy="4643640"/>
          </a:xfrm>
          <a:prstGeom prst="irregularSeal2">
            <a:avLst/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2"/>
          <p:cNvSpPr/>
          <p:nvPr/>
        </p:nvSpPr>
        <p:spPr>
          <a:xfrm>
            <a:off x="3143160" y="321480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ИРОВАЯ ВОЙ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36" descr="lnp.jpg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6594da"/>
              </a:solidFill>
              <a:latin typeface="Verdana"/>
            </a:endParaRPr>
          </a:p>
        </p:txBody>
      </p:sp>
      <p:pic>
        <p:nvPicPr>
          <p:cNvPr id="249" name="Содержимое 3" descr="37.jpg"/>
          <p:cNvPicPr/>
          <p:nvPr/>
        </p:nvPicPr>
        <p:blipFill>
          <a:blip r:embed="rId1"/>
          <a:stretch/>
        </p:blipFill>
        <p:spPr>
          <a:xfrm>
            <a:off x="0" y="0"/>
            <a:ext cx="4761000" cy="25351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4" descr="9071-2.jpg"/>
          <p:cNvPicPr/>
          <p:nvPr/>
        </p:nvPicPr>
        <p:blipFill>
          <a:blip r:embed="rId2"/>
          <a:stretch/>
        </p:blipFill>
        <p:spPr>
          <a:xfrm>
            <a:off x="4816440" y="0"/>
            <a:ext cx="4357800" cy="437688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5" descr="k6.jpg"/>
          <p:cNvPicPr/>
          <p:nvPr/>
        </p:nvPicPr>
        <p:blipFill>
          <a:blip r:embed="rId3"/>
          <a:stretch/>
        </p:blipFill>
        <p:spPr>
          <a:xfrm>
            <a:off x="0" y="2286000"/>
            <a:ext cx="4784760" cy="43768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6" descr="338648_crises_usa_history_photo_5.jpg"/>
          <p:cNvPicPr/>
          <p:nvPr/>
        </p:nvPicPr>
        <p:blipFill>
          <a:blip r:embed="rId4"/>
          <a:stretch/>
        </p:blipFill>
        <p:spPr>
          <a:xfrm>
            <a:off x="4383000" y="3998880"/>
            <a:ext cx="4761000" cy="285912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7" descr=""/>
          <p:cNvPicPr/>
          <p:nvPr/>
        </p:nvPicPr>
        <p:blipFill>
          <a:blip r:embed="rId5"/>
          <a:stretch/>
        </p:blipFill>
        <p:spPr>
          <a:xfrm>
            <a:off x="1292400" y="-237960"/>
            <a:ext cx="6797520" cy="197460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9"/>
          <p:cNvSpPr/>
          <p:nvPr/>
        </p:nvSpPr>
        <p:spPr>
          <a:xfrm>
            <a:off x="500040" y="1571760"/>
            <a:ext cx="5857920" cy="916920"/>
          </a:xfrm>
          <a:prstGeom prst="rect">
            <a:avLst/>
          </a:prstGeom>
          <a:solidFill>
            <a:srgbClr val="ffffff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ровень промышленного производства был отброшен к уровню начала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XX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века, то есть на 30 лет наза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3"/>
          <p:cNvSpPr/>
          <p:nvPr/>
        </p:nvSpPr>
        <p:spPr>
          <a:xfrm>
            <a:off x="500040" y="2714760"/>
            <a:ext cx="5929200" cy="642600"/>
          </a:xfrm>
          <a:prstGeom prst="rect">
            <a:avLst/>
          </a:prstGeom>
          <a:solidFill>
            <a:srgbClr val="ffffff">
              <a:alpha val="7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странах Запада насчитывалось около 30 млн безраб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4"/>
          <p:cNvSpPr/>
          <p:nvPr/>
        </p:nvSpPr>
        <p:spPr>
          <a:xfrm>
            <a:off x="500040" y="3571920"/>
            <a:ext cx="5929200" cy="916920"/>
          </a:xfrm>
          <a:prstGeom prst="rect">
            <a:avLst/>
          </a:prstGeom>
          <a:solidFill>
            <a:srgbClr val="ffffff">
              <a:alpha val="7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худшилось положение фермеров, мелких торговцев, представителей среднего класса.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Многие оказались за чертой бедности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5"/>
          <p:cNvSpPr/>
          <p:nvPr/>
        </p:nvSpPr>
        <p:spPr>
          <a:xfrm>
            <a:off x="500040" y="5072040"/>
            <a:ext cx="6000840" cy="953640"/>
          </a:xfrm>
          <a:prstGeom prst="rect">
            <a:avLst/>
          </a:prstGeom>
          <a:solidFill>
            <a:srgbClr val="ffffff">
              <a:alpha val="7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зросло количество сторонников как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Verdana"/>
                <a:hlinkClick r:id="rId6"/>
              </a:rPr>
              <a:t>коммунистических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, так и правоэкстремистских парт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Прямоугольник 17" descr=""/>
          <p:cNvPicPr/>
          <p:nvPr/>
        </p:nvPicPr>
        <p:blipFill>
          <a:blip r:embed="rId7"/>
          <a:stretch/>
        </p:blipFill>
        <p:spPr>
          <a:xfrm>
            <a:off x="103320" y="743040"/>
            <a:ext cx="50590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6594da"/>
              </a:solidFill>
              <a:latin typeface="Verdana"/>
            </a:endParaRPr>
          </a:p>
        </p:txBody>
      </p:sp>
      <p:pic>
        <p:nvPicPr>
          <p:cNvPr id="260" name="Содержимое 3" descr="37.jpg"/>
          <p:cNvPicPr/>
          <p:nvPr/>
        </p:nvPicPr>
        <p:blipFill>
          <a:blip r:embed="rId1"/>
          <a:stretch/>
        </p:blipFill>
        <p:spPr>
          <a:xfrm>
            <a:off x="0" y="0"/>
            <a:ext cx="4761000" cy="25351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4" descr="9071-2.jpg"/>
          <p:cNvPicPr/>
          <p:nvPr/>
        </p:nvPicPr>
        <p:blipFill>
          <a:blip r:embed="rId2"/>
          <a:stretch/>
        </p:blipFill>
        <p:spPr>
          <a:xfrm>
            <a:off x="4816440" y="0"/>
            <a:ext cx="4357800" cy="43768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5" descr="k6.jpg"/>
          <p:cNvPicPr/>
          <p:nvPr/>
        </p:nvPicPr>
        <p:blipFill>
          <a:blip r:embed="rId3"/>
          <a:stretch/>
        </p:blipFill>
        <p:spPr>
          <a:xfrm>
            <a:off x="0" y="2286000"/>
            <a:ext cx="4784760" cy="43768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6" descr="338648_crises_usa_history_photo_5.jpg"/>
          <p:cNvPicPr/>
          <p:nvPr/>
        </p:nvPicPr>
        <p:blipFill>
          <a:blip r:embed="rId4"/>
          <a:stretch/>
        </p:blipFill>
        <p:spPr>
          <a:xfrm>
            <a:off x="4383000" y="3998880"/>
            <a:ext cx="4761000" cy="285912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7" descr=""/>
          <p:cNvPicPr/>
          <p:nvPr/>
        </p:nvPicPr>
        <p:blipFill>
          <a:blip r:embed="rId5"/>
          <a:stretch/>
        </p:blipFill>
        <p:spPr>
          <a:xfrm>
            <a:off x="1292400" y="-237960"/>
            <a:ext cx="6797520" cy="197460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18" descr=""/>
          <p:cNvPicPr/>
          <p:nvPr/>
        </p:nvPicPr>
        <p:blipFill>
          <a:blip r:embed="rId6"/>
          <a:stretch/>
        </p:blipFill>
        <p:spPr>
          <a:xfrm>
            <a:off x="237960" y="817560"/>
            <a:ext cx="4218120" cy="115092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19"/>
          <p:cNvSpPr/>
          <p:nvPr/>
        </p:nvSpPr>
        <p:spPr>
          <a:xfrm>
            <a:off x="500040" y="1785960"/>
            <a:ext cx="5857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 млн умерших от голода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0"/>
          <p:cNvSpPr/>
          <p:nvPr/>
        </p:nvSpPr>
        <p:spPr>
          <a:xfrm>
            <a:off x="500040" y="2643120"/>
            <a:ext cx="5929200" cy="642600"/>
          </a:xfrm>
          <a:prstGeom prst="rect">
            <a:avLst/>
          </a:prstGeom>
          <a:solidFill>
            <a:srgbClr val="ffffff">
              <a:alpha val="7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исло безработных достигло почти 10 млн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0:09:32Z</dcterms:created>
  <dc:creator>Пользователь</dc:creator>
  <dc:description/>
  <dc:language>en-US</dc:language>
  <cp:lastModifiedBy>ASUS</cp:lastModifiedBy>
  <dcterms:modified xsi:type="dcterms:W3CDTF">2015-01-11T13:48:45Z</dcterms:modified>
  <cp:revision>34</cp:revision>
  <dc:subject/>
  <dc:title>Слайд 1</dc:title>
</cp:coreProperties>
</file>